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9A4C65C-BC89-4BF6-98AF-26F869F37316}"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63B1B03-9B9A-455D-ADAD-2ED694AAD94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EF3D1CF-8CED-45B8-9E4C-C4713409CE1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E6FC2DA-1907-4672-B59E-A29B06C683C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DF60267-F3C0-43C8-8FCF-0D92E798FE0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9DEB48D-FA8E-4267-8380-EE5E0D1817D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A92FB67-C2F1-4F77-89E6-B84B68C94F5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95FC9FC-C182-40B3-9FDF-123FAA619F1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6D4408E-FA19-4B9C-8836-1B94D2148F8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E92B725-7F26-48EC-ADCE-4FEABBDA8E8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305D44C-6F8C-4DAF-B0F1-38C61C3401E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D149502-97F1-4A10-9ACD-E7BD727267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B5E0A6-A8DB-4119-92B6-81BCCFF1F2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FF60268-511D-4361-B608-49038B6157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0254C1C-5120-483A-97DC-259AEE446F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EA420D7-C6CF-4EE3-BFD3-0207E4EFFA3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90A90AC-EBFA-4FC7-998F-7754B076C1F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1DD92A3-3F5E-4C24-B890-5E91B33D86A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8EA2BB0-AC1D-4298-9DA6-2780594BB2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FDDFCCF-2508-4E7A-B37A-5587A28F850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10B9E0D-2D71-4EE8-AE45-DCA0C952D79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C4F965F-F781-4940-BBBF-7190141D67C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5D0DFA-BE1F-4FB9-9E2C-77B721EEF2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D4F1483-CE25-4EB9-B275-B3A1CA7342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7A288A7-DE2A-4CBA-94C0-765AAC2C8A4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A359289-DF43-4E8D-B573-EC7EC01E5C9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E5A8C20-183B-4E10-96B4-5F07A9995EF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EBFB986-75CE-4506-B825-621CA18C21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138697-85B4-4BC3-9195-28908B5E9F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5A9ABE-BD2A-4D92-8472-49CAB5217C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C61B62F-B6E1-4011-A435-3CCBA7EFC1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4D2732-D862-455A-AB34-71D3066072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54C455-B46E-483B-9288-DEF50E52D6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DF4713-CE8A-4A33-AE6A-ECDFC3370D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29099F-C9E3-4CAC-808B-2DC3D97B2B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1C223-73F1-4172-8CAF-5184008617E4}"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3C1A4-AC34-42BD-8CB3-A82756B5562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77451CA3-FFE9-4EB4-B29D-BEF2F53CAC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90C8360-E6CC-429E-AABC-D3098140577E}"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BE005BB-6A03-44DC-80B4-B301F5DF95B7}"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589D308-D3A0-4AED-91A2-DC361648EEF1}"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4C77EBC-6849-4999-8F28-B2D4329CA413}"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464708A-125C-4512-BBF0-D4614D318B13}"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46A0081-1B37-4C29-BF3C-7CA38314E6F4}"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D0AAAF9-96D0-4670-BFB9-61A8EE240285}"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D1E83E8-09D0-4BEE-B222-D1E84408D141}"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88630EA-9E4B-45FC-B9C1-C4771310544A}"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F7CB236-31B0-40EE-8DFA-2F5E9958243B}"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807C317-B2E6-4AFC-B58B-F4AD4A11FC11}"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749F750-66D7-4348-9570-E4BDC25CB360}"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08999E1-F0C1-4184-A142-AFA9E9E8B5B9}"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D4532C8-BA19-45BF-9211-2504E02CF83A}"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4CE2D9A-030F-48F8-9F39-43B960B91B49}"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A506383-0A2E-4147-A490-C7B1E919D8F9}"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9D2660B-187A-4EF6-961C-7D46A59E6556}"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727CF4B4-BF38-4100-8600-8BF1A553A779}"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7A49924D-2FEA-480B-A469-C76029351356}"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D5ACF8D-5973-454B-A095-92F7D5B85D70}"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1E19374-E584-4B33-838B-141D75A79765}"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7346C6A-6FF0-4CC3-8931-11DE2BA443FE}"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0D4C5A9-81C0-43DF-BF36-527732C075B7}"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C311A80-2711-41BE-9540-7FCADB837B4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76475CC-C922-4BFD-BAD0-0F68924FF488}"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130AED9-5030-4D1D-B178-5D247C85DA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56B3A07-3E46-4168-A066-21AC3FBBA5F7}"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61E7BCD5-4F43-4879-99EC-884D004F04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F23E9FD-3472-4138-94A3-B4DBCD6801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56A0629-70A2-4237-BA95-6FBFA3F265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5D7A79F-715E-4C31-B6B5-95F35619D400}"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D6AF94D-ED4B-403C-99CA-14EC391882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4E65970-A786-49E5-A130-591F6D9D78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DADFA29-884A-4895-A8EC-E4A35165B0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20CA4E3-A363-4B44-AA94-11A96D182274}"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6B15409-EA45-48D8-9540-F77AA6606B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F27CBA7-0414-4804-B1F1-E1F74CE690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872962D-2590-46FF-9D87-FF7001D9BF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DD0E2A1-E1CC-43D6-A084-0F54ADBAA018}"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16D737F-96F2-4802-9BDB-3453E7C4B6E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8B23956-E1A6-46A1-9F22-E4B251B60DD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2AC94B8-E961-468A-A1D7-4779ED8A8C43}"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C1EA964-3218-4910-90F6-B7F97FA7989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538EB9C-F395-47F2-BCD6-AB4677229A7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506F654-0098-4E4D-8D23-108E4766BC3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FCE0007-250F-44F7-8827-A1F55459FD4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D82DE75-91C6-4202-A21E-51D837AFA52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41FF664-21D8-45B8-853E-7D68F637DB8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184DCC1-C784-45CB-8365-EF2F2E9CCF8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DDAEAEA-8CA2-4B0B-9208-1ED7AF17F9B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715857F-5090-446F-B03D-7EEED80518D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1F6EE1E-AA21-4DD7-9946-5AFC55F9C95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10FE2D0-F10B-4A61-8D6C-5474B92A86C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97F016D-455D-4F58-945F-8642573DDD2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F9B5222-D011-47EF-BAEF-04A25C8BFBA4}"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5CB54B2-DE75-4F6C-AA73-0DACBCD2784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32CC107-73BB-4E1D-B470-9D6050186DD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738F12E-A0A3-418B-8092-1233A7B34FD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1642DBF-0F17-400F-A24E-A3E120168E8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1720291-3D8D-4A7F-9974-5B88420BD5D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F39917E-1F72-4EB3-BFD4-C5FC946754D0}"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B3A5E25-E56E-4A63-B6A1-84AE22CA506A}"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8C47F19-5C81-4D71-BE41-AD91E1FC9A54}"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FAC4BE9-D054-403C-AAD2-A0E69E89ED6D}"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127267C-3A9C-4DA6-9103-EB2A3DB2EDD6}"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FED9AC0-AEC8-4A80-886B-37401BC417C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1D13E10-3E6D-451C-AA97-FDF76700C61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B7E967F-73DE-433B-9C7C-5B221A9C3983}"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E2F5464-7FE0-4BE1-9DF9-5B6E1012B06D}"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39E454A-0086-42E8-9E99-C7E6C4707C46}"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FF889CB-FEE6-4ECF-B497-D76ECC5DDAF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8ACEC6E-4B69-41A6-A6F0-58966E97A88E}"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B06DCDC-6701-463C-9789-AC86AEF3341D}"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476A5B3-C708-4DDB-88DC-E7674F35E61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88A18FD-BC7A-4D1B-B2CC-D108679DB757}"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30B4795-3383-44C4-99B8-908CB717ACBF}"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B0DF123-0ABA-4089-8014-E61B71658F65}"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CC2E181-0DBB-4736-9DCA-8B372CC826B1}"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67D687E-1D84-4C05-886D-43963CECC887}"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DAD6CB9-2017-48B0-B00B-42263D10E718}"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972AD55-0D53-450E-BDEF-338EA16794B0}"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F61C6E5-6EA7-40E6-9472-E57AE945ABDC}"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7132450-E119-446B-AD16-1F418241DBFA}"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FAC3EA6-DF24-471D-8308-1F13679776F7}"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277498A-BE10-43BF-9EBC-F801506D7CE9}"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F25C02D-43E0-4D79-B2ED-DD1872D28E8C}"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81EE5DA-0524-4EDE-9122-768C66B259EA}"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E8FC642-7B6B-4ED2-A640-FBEB40807AB7}"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0F137D9-1ABA-43A5-80B4-C2E622AD0904}"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0857664-D6F4-4851-84E8-15A59402965E}"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B5DFB7B-F500-4179-B2CC-217A3B3A0A72}"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3CBA746-7723-4016-9986-440353E71628}"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65E65FA-CA3D-46E0-AE3F-30CC63AE1671}"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33A2878-CA72-4AF0-A280-6B43F18C3703}"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7F50FE3-E0CE-42CA-90CA-F5491394C7D0}"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4188A60-FD0E-4487-9C2D-B33DC53E9308}"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60ADEA6B-8B97-449D-9F75-0D3517F140A5}"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A01EDF7-5AF2-4C75-BA8A-E1A1FC35EB0E}"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199F3F5-B4E4-45A1-9C0A-815583D4203F}"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81B83A7-AB2E-4B1C-B529-A987E5F0D986}"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5815C3A-B0E3-4100-AAA8-5EA58ECD0AE8}"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98D7813-5B9F-46D2-908C-6A7B4BB740D0}"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2F8DF89-3307-4C75-9168-D29E84A7C649}"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E2E0E78-5C0B-4044-8409-836C90F3EC70}"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F521097-9509-46A6-8A12-888FB98B7CE8}"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C12BAE8-B802-42F3-850D-0BD101B8C33A}"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DB7E5F3-382E-4A99-A7F6-A0BD933B9E99}"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948B644-B5CE-4087-B447-B33EE7DBDD31}"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E9FE03FE-B9F0-4026-B6D5-7EFDE9BB3DCA}"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F5BDEBC-3780-4463-A526-6790CBBE015A}"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D6851A2-CD32-47E8-85F8-2CEF1DB4E702}"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9F377E2-37C4-4AC9-BEF6-D9BC8C50E9AD}"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134F0DE-B140-4771-83C7-79DA3243C5A6}"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1451E10-36DC-49C5-BAB0-B314E645A81D}"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3C59A0C-FA99-4541-A3B6-ECEBF71DEB34}"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1134F14-040A-4909-98AB-7B8C0F15282E}"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4167FA3-76DE-41B6-A16A-6FBD4247D825}"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2DBFFAB-A8D4-4282-99E8-9E4661FE79E1}"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B382445-91D7-4C76-B6B3-29D9F4B56476}"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4033EAE-392E-407F-BFBF-75FFBF7CD330}"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