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03C-F026-4BAA-86CD-F85A2212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9BB-A98D-4AE6-ADAE-D79F7D96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D694E-1D1E-45C6-8C9C-ABB1D253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198E3-0DAE-42E5-B7AE-1CC4B2A0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A9591-385D-4A72-A839-52C99C63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9A7D2-245D-42F5-8B44-DE6BB552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DB35C-6998-46AD-AB3F-C7DDA523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17CF8-2DE7-4E7E-8CCA-CB2A7EFB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ECC4D-E343-4D75-A0F2-6150216C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14DEE-111C-4A5F-9711-B029B9AB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BECA3-3825-472A-9D3B-164FEA6F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56EDF2-8841-4CA5-A039-43081E2F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A4B-F683-4B99-B9C0-B385A130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0F2ED5-BB48-4EE8-9BD3-A82413FC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54C731-D7A0-4F52-8D78-060DCC15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F4E908-3A0E-412F-8280-D095E419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C41904-B44D-4512-BE37-D9466DBA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479CF3-B364-488F-9816-8643C769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61B0A7-7897-4C4B-812F-E646C189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F6EE1F-A2AF-4598-AFE3-9EA39628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1ED71A-A2F7-4CB0-A631-2C5FA1D9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F9B2C1-0E90-4683-AC50-629F798E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446201-E990-4D99-A283-827C2E4D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0F8-B932-42A5-96D8-8DC97EA9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8B190B-C759-4D8F-A407-3C40CFF7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E6E47-DDD4-45C8-A2C8-A72834E9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C23CB-8B6B-4C44-A370-26CDD548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D4189-E070-4601-8470-C326D86B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4951A-DD4B-4086-8244-102D42E3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A12E7-BEFB-4502-99E2-3ED2CB4D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23D7F-6F8E-4619-BB67-4EA24111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A9B69-ECA7-4981-A1E2-3232AA26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A0845-E493-40E6-BD66-A7371EEA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A0016-9A5F-456C-9902-EF1C3477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EE8E-930F-4EFE-B5AA-7E5BC047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F13C7-81A6-40F6-AEE7-30C851CA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7E0B2-FCA8-42CB-9EEB-23B46B54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02F3E-738C-418C-8E2F-8E17EA90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C4EBD-C590-4585-B5CF-CF810C43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D678A-8BDF-42FF-BEF7-452A8673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16FA0-A87B-40A8-BF66-4C04F19A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5024F-6661-42AB-AF02-D81613C7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BB2C1-8453-4522-B70E-DEF62FF7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F0A08-9700-4E89-B6CB-D34B3938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6C3F0-2ACE-46D9-9B36-1E6D7512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1F8D-A0B4-4C18-B938-D6222AEA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E0D44-83ED-4285-AA0E-DFAE60A8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D744A-99EF-4BBE-90EC-8939EA52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5648D-FC0C-4EF0-A4FF-AFF6D89A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E2651-836A-4AC7-9954-34D1222F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7C5A6-CF34-40C0-BBA4-2418817B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3C3F-8F79-418A-B15B-8D4B4CE9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588C-489C-4EF7-88FA-F8C97A81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2C51-CA69-4A92-A867-9C1F8FB5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1852-0C8D-4E5F-969B-3C7BF94A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00E5-4D92-4EDA-8CD9-D69CBAB6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D9E-0D08-4C75-A29D-C74F3449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17EB-9E9B-413E-A32A-8F3C1286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4549-F5CB-46FE-9FB5-89642EBD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3BFE-518D-43BF-8234-E47A8801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8D8D-0C8B-4049-9A1D-B7CD9C8C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6ECD-E833-48E7-814E-CBC0C0B4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FA42-1449-400C-B40D-84768010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B046-6AB1-48DF-95A0-7C9E8909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21C4-81DA-49C2-9D6C-C995F747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D623-1EA0-478C-A62E-B0569D9A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05F0B-DBC1-4510-A926-E08F20CD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2C1-AB3A-4C25-91B7-CC91A69F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A8A01-AFEA-44DF-929D-E9D117CE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5E60-4FA0-4EF9-9186-4A5F9891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36EA9-663E-4899-A592-8D3665C7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62A1-FD28-4DDF-AB8D-11CC2ADB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4EF5F-8DDF-466C-B243-AFE96855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EB423-E1F1-4361-A8BA-069968BB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D9CD1-3CDD-477F-892C-47F1712A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8729A-6CAA-4184-AE42-AFA4E038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9E8F-E704-4302-836D-AE33CF88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AFE68-5C99-4D5A-863C-C84CE24C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BC6-5FE5-4926-901E-0F71A477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5773C-7A51-4633-B481-2DB13B61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6340B-1FB7-4334-A258-E716FB16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3E147-3D7E-40AD-B0F9-FF83AA22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CCEF8-DDD0-4E87-B016-F0232D81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33243-041B-4A14-B044-1C02799D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43EF7-B6B8-45B5-B9BF-E707644F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6F577-2F13-4096-AAC5-2679E9AD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EB7C4-5C32-4492-94B1-A7DE0426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0D04C-25E1-4FD9-9F1F-706D0688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110B9-8F59-4758-8EAC-D1DFF412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339-92FD-4649-90AF-0E018CB5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8C4F2-35E5-4EC2-8559-2A49B643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3CAF6-A361-4D0A-B86D-94061E38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12F0C-5EF5-4FAA-ADE2-87332B87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2DBEB-99F2-4C16-81AE-810A14A7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61B38-31C5-470C-9FC0-54552781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EA101-79A4-4F42-B2EC-253C7F95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EB52AF-3D8A-4089-B7B4-F7D519C8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45A2F-405D-4EAC-91E7-3F7F49C4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01545-3440-460E-A9A4-8539BC6C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60E6C-156C-49D9-AF53-4EF2C3B8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691-DF11-4E0E-ACFB-D12DE5A8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E36D2-D2BC-45BD-B031-DB19D6AB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5164F-4F17-4B51-AC01-E3C9FDF0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0E7B2-17B8-4874-A19E-5E25F2FB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EA470-255E-4727-89BE-F73BB6A9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EB83F-03FE-4E50-964B-759199CC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E84EC-7E66-4A03-AD11-D5A27D07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35133-8EF5-485F-A741-17B6E54A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84450-D1D4-4109-9389-D30A986A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ACAE2-003D-41F3-811D-B831F437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704F3-DA66-4724-8084-7D6C83A2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973-21B5-40BC-8216-FBFB6E85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22C1D-003E-4DB5-BE8E-3E897C23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EAF16-5FEF-434D-8184-56E0E4B7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FF78C-6B6A-4B0C-9E84-334C416C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FF158-DA13-4A0C-8214-6EA54C6B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C213C-99CF-4539-8667-98BCDF5D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070CA-2680-4950-ADED-0A45FE11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4C71B-B8DE-445C-92A0-298589A3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6A1E3-DFFE-4AF3-B692-4FA9A466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9F77E-14DC-4099-8EFB-FDBCD608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E2E55-2EF0-46A9-A276-6BF0F28E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077-5498-42A5-B91B-7B79FB64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4538D-5E41-4D47-AB62-AFB88E0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D5FFB-7FA7-4EB8-9E90-0ECFC848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20E66-5436-4F3A-8AA9-EA869240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1C27E-AFF4-419D-99F3-E401F73C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87D87-C27A-4BEC-834B-1B383A8C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7E72F-1DD0-4DE7-B7BC-240DF156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87A80-04D0-48D2-8F73-49C9F126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79EE5-CD3D-4590-843E-9C81F0EB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60CC5-8DE4-46C6-B63A-5E25897F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FFB1F-D45E-465D-9EBF-4E0A2B86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1D0-2D2F-48FD-8ECD-C70F7F40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DB837-B077-4A6E-9AF1-0B34304B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845E2-90F2-4520-8FD3-074B4F4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DBDB9-109A-455F-97AF-C351BB74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85935-9135-4550-92AD-D83518B6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30AEC-DE79-4638-B15D-45A22EF4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DC982-0F92-4B97-991F-C99C8778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C8E09-19F3-4787-8889-FF0E7FA7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F4EB7-BBFF-41F6-AF51-4270FFD5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9D5AB-6A62-4C88-9ADD-6C58F322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7547C-4F6A-4B26-800D-45300C5F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182C-F6DD-4ABE-BFF2-959086F2D80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9834-DC5F-4FE6-8374-4785AD6F46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C82C-43B7-4129-B49B-E2996B8A6D3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B3F3-093E-4431-B6C1-E841C2C54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FD16-3FF2-4519-8EA0-A7DE9864FCB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4A35-204A-4209-B38B-1F7C34B9644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7F91-73BE-4017-BFD0-EB10C9395A4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B8B1-88B3-48EE-8D30-595DDD9A52D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6DFD-27B7-4DB6-A54D-ABF087E6389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842F-FF14-43D6-8B9F-22B08031CF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DAAD-B2D5-4997-9238-4BF0A9A5F9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9031-830B-454A-9346-F6180167B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AF24-A257-43F6-BB4F-7A0C90BAB5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352D-1606-46CD-99DF-D30D8D5BB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58A6-B6B9-481B-9C91-D3C213D90F7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961F-1AB7-4572-8955-E38BDF5DD69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DD65-276A-4933-A68F-BF4457D2D12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7A0D-6DAD-4393-899F-B37727F4D3C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782F-BBD9-4D81-868B-E2CDD95D91E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8D34-1DCF-47E4-BFDF-43868F4B5D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147E-A316-4A88-A272-02803687C65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FB17-679D-40B5-B075-B7B96D62B67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A7E2-B492-423D-A7A3-EE49D433991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D839-E1DF-437E-817E-8CDE02490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794-C26F-4C2F-AC45-A528B385FB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2239F-5CB4-4210-8505-8691A06C647A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A0D62-CB53-484E-AF49-BEDAF65DDF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7C9CE92-4590-49C9-9245-6B5CF179F0B8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AFD68-142F-4342-B0A6-429EAC40FDD3}" type="slidenum">
              <a:t>3</a:t>
            </a:fld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ECA58C-3F5C-4D79-B666-28ADD5ED02E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BE5A289-101B-4957-8DB2-4FB74E689D05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28A3A-D093-4378-84B7-A20404EFA7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96D3759-031E-43FB-80FE-C96398A354D2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46A32-CAD8-4207-83E2-F73A233E8E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FD56D0A-31CA-46EC-9D10-C2864D6D7647}" type="datetime1">
              <a:rPr lang="en-US"/>
              <a:t>07/30/26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